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9DE-3C0D-4714-97D4-A3E58C82F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ibusiness Entrepreneurship teacher could challenge her students by issuing a worksheet that involves estimations in the business world. She first would review how to use rounding as a strategy. Her goal is to improve students’ ability to predict results and check reasonableness of results that are related to accounting fundamentals of their self-developed busine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40BF-9C3D-4303-BD41-EC451C6C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99BC-1D96-44CA-A3BD-8B30E7C7D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7AD3-65FE-4C92-B34C-FF77A5961A7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1614F-BDE0-49F1-AF5A-B97B7F5E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5BCCF-F62B-47DB-AB30-2848BB8E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0B552-0196-4F50-9BC6-D423F4EF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7B2BC-E67B-4FD1-B019-8E29F49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91379-CEC5-4D99-A028-9791E5C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9B2C6-9EF4-48BD-89D7-5C1E98BF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81EFC-A5C9-40D7-BCF0-26E9243E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ED8C1-FB89-4EBA-AABB-C7353814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DF7C3-FDBC-4A8B-8A16-357CB71D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44569-8C76-45A3-A800-63F5707C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72A6-A29A-4EBC-8BB2-C1E6D901712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5149A-9403-47F2-9E37-9908B87C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11E0D-1D24-4185-B114-AF01DDE8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3B418-83DA-4C08-94D1-6CC451CE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DF2F6-8F4A-4EEA-9C25-912C944B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5B263-A824-41DE-B26F-AC4FF05F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0CD67-AB88-4DF2-9CB4-334E6B3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809B7-DDDB-4A42-BB9E-6984320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BBA8C-3B18-4B33-B960-CD9E539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36AB2-832F-4D10-A4B8-0173D2A0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60875-8463-450A-B7AD-A6D2C1B8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C1CD-6CE1-4A01-A858-012B1A8568C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C3D2D-E09A-4529-A270-4AFD2EC4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914BE-F71B-475B-A2B3-1FD8CF25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8F1D0-93B9-488E-991D-2FB448C1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DCE33-735C-42F8-8317-6E256809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8CF8E-BAA6-40F6-B3D7-46B2A840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376A2-05DD-4B8D-820C-5F11DB3B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454A2-3F57-4EC5-85DE-2273764B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F50D5-564C-4A55-BEBC-A685202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A2110-45FD-44CF-A35D-4E2E5D73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C5AEC-0E1F-4330-91E9-7439AED9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AB5-3CFD-418F-8C6E-41D8255E8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A4546-9D23-493A-9557-8C25C249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EB45B-73DA-42A7-8D39-1F4AC329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EF014-F86F-4342-87ED-DBBA4582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C1B61-362B-424E-BE12-3252B1CA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79DE0-5728-49FE-8984-B45C697A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255AE-29D7-43F1-91B7-264E3C4C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D2967-E754-45C4-BD33-F3F00010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15A8F-0112-4966-AE01-546E3B41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22BD8-B6AC-4590-A5D3-B4A4EB5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E2DE3-592B-4A93-BA96-D0B1BD7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883-32B6-4C74-A728-6FE0FFF2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47FA6-92F5-4FAB-8BA8-3DCCB16D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A0D5D-80ED-4EFD-AECB-51B5A85A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34A3F-9331-47A1-B0B0-358E835F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2BCF2-9DA8-401E-8E73-B075E12C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A03D8-F6A7-4000-990D-025E3588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EF7-BA27-41C5-B732-B88EF64D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9A4-8BB1-45BE-9F5B-DEB7604E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C8C-548C-4D3B-BE9B-BDE88CA6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045-AD2F-428A-83DA-7EAA095E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52A-9129-4564-8BA5-4362ECCB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BE56-6EDC-4683-96D6-7D0429B52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C40-4451-4445-B64A-5218798C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386-7CF0-4AA4-9F5C-08144B42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86E-02A5-4B27-8272-991DBB99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016-CF02-4B0A-84DC-F105ECA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9F68-3609-4133-9760-E870BBB698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4207-238B-41BE-93C4-FAD99B0C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B541-BA93-461D-BD7C-553A2078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E07F-E161-4235-8787-26A38BE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B1B9-2918-4E7D-964C-85FC3447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9C84-08C7-4DD0-92B1-7889333B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8860-200C-42A7-82A3-A02CB4B10C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0D62-1732-46C9-8CC0-F56630B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0F75-2F3D-48F9-A415-119694F5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63D1-3E73-4F5B-8D8C-383DC37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1CE9-5AE8-423D-A252-B62CDB3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B24B-2193-41F4-A806-397C186A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5514-C053-44F4-BEB3-A0938607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B5C5-FFE7-4FF0-BF6F-CB7C4A58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9F63-4D32-4AC9-ACA1-0668C427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A185-FBEA-4DB1-8CB8-6BC6BC89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CD9D1-5847-47A2-AEA0-5AA139C9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F53F-3D87-4C53-8853-41C3887510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5BB0-3616-430A-B5B6-9DD15A2A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AED43-31C5-4443-9B9E-D050CF52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829B-CC14-4CC2-AB1E-A5EB331D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F16B-C539-407E-B694-417E07C2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681D-D89B-45A0-912E-0B1AB4C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AFB7-E412-42B7-AC92-131BB4D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138F-8244-4775-9CA9-F10606C8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AE10-F352-4118-B312-40B6A666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6CFA-DE07-4EFA-81B1-71AAC17C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C21DF-A09A-4EC3-B300-97D4A4B4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8DC6-7852-4CB4-8045-D376FDBFD9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00BB-766E-45FE-8B59-E319897A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EC8B-17F8-4C76-8A52-22EE5334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073C-C467-43D1-8314-A78418FD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5911-FD06-4F41-BBD9-A6DD05CC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A157-489F-418E-957D-CABC7F18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2D54-11F9-4506-8B4F-30ECB8C4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B54BF-6B80-4AD0-A5DA-47413A29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4476-5BA2-46DA-8A77-A875F329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9D81-7680-4BA5-A98E-48171F30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4A6D2-CB36-425D-9D68-896019BB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C19A-4F00-4F50-9E57-50E32610C8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C66E-CC72-4F96-947B-DC810073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F39E-77DF-466E-A729-FE8AB232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14262-D053-4C2C-AB29-BB502EF8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733D9-C71C-4979-9201-37D9486F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31C94-01D7-40C6-A8A9-7905412F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FA222-860E-4F34-846B-CE4FB3F5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B508-01F6-47F0-842C-215F5920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F2B95-EB2F-4F52-86FC-0344AEF1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7F36-9040-44F3-9623-05E4DF0A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C15BB-B69F-4517-A39A-C705EE35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BF92-0B98-488F-90EC-3EA58852314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1E63A-98E8-4281-A571-7E4CD9B5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3A8B-1101-4F19-81F4-3D278C2D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6334E-35C9-4A9A-9AC1-8D58D74E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5EBB3-B68D-48D8-A44E-19BA984E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EC293-9ED8-4F3C-A0EC-4189A167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B157D-EDF7-473D-86AB-747EF1B1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C0A81-F96A-4241-9B78-3F12B59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A4C33-DE1F-44FF-9D32-B66F3B79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66DD-6BBF-470A-8875-1531159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25DC8-3B4E-4A58-AC15-05F2B818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4B53-9665-4A26-A02C-EABE0BF9B8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9B363-1FC6-4BAA-B00D-46EAA2E3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3543E-B928-46C1-8E97-C71D6F4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C64B1-7CCE-4E53-A8EF-AEB3122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2B71F-7694-4933-B900-B60A571F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4780F-2F01-4A32-99CC-40E4EF2F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0CF2E-2B6F-42C3-B186-463C1B7B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AB0D2-184E-4169-AE22-7BA3F50D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8C61-FDE9-4CDC-AAF7-3790368A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AAC63-626C-484C-BE40-CB93251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EAA7-E121-4AEA-B5AA-3760ADED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51E3-B4E6-4D89-9338-60F20B8120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2D460-FFE6-44F4-9434-B32585DF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D86EE-75C7-4D78-A5E2-FF0A00E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53E53-0053-4493-B51F-C34B4E56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5791D-4D51-4404-AEDD-EB502464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699B7-445B-4DE9-A068-72A972D0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0FEF7-DD0A-4A10-97C5-0D4E6CF4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7BDC6-87F6-47BA-8337-3E46169F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96758-1E78-4E08-8AD7-64557755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089CF-B76E-4A9C-9B47-7AC82E62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C0EAC-90DA-4EA0-8341-F0981AEF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82A4-ECFC-4734-B4E8-ADFB5EC5598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D349-4398-479C-A4AA-43F21450AE5C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C711-9B36-4ADB-8907-E437CF5B187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4EFD-6917-4184-82D4-329C102573E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1FAB-3711-4685-8E9D-89B34954A46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D22C-9F79-4E49-834C-830B8E6CF11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CD48-6C3B-4810-8458-C9D0132EDC2B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E9A8-FD1E-43F1-84A4-CE2E5449EE9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B792-F5C8-412E-AF3A-61B15E41F15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E794-FD1A-4045-AF7E-A927BF4372F6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3B16-F596-488C-94A0-43486DCD85B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0DD7-EF0C-4F0F-98E8-3F1DE8F2E59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1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number to the right of the tens place is 6. Since that is greater than 5, round up. 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 46 to the nearest tens place (46 = 50)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50 X 7 days per week = 35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No, it would not be possible to produce 500 jars in one week at that rat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a student works at a flower shop. They sell 7 bouquets of flowers per week for $19.54 each. Will the monthly income from flower bouquets be more than $400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 $19.54 to the nearest tens place. The number to the right of the tens place is 9. Since that is greater than 5, round up. 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 19.54 to the nearest tens place (19.54 = 20)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$20 X 7 days per week = $14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 140 to the nearest tens place (140 = 150). They make $150 per week on flower bouquets. 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Multiply $150 per week times 4 weeks in a month to get monthly incom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150 X 4 = 600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 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es, 600 is greater than 400, so the monthly income from flower bouquets is greater than $400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a student plans to sell some of his own cattle. He plans to sell 22 head of steers for $987.12 each. Will his check be about $20,000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es. (20 X 1,000 = 20,000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a student works at a welding shop. They build 31 feed bunks per month and sell each for $197.99. Will the income from feed bunks after 6 months be about $36,000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Answer: Yes. (30 X 200 = 6,000; 6,000 X 6 = $36,000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Agribusiness Entrepreneurship students use rounding as an estimation strategy to solve problems related to operating a bus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gribusiness Entrepreneurship—E2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Distinguish key accounting fundamentals to accomplish dependable bookkeeping and associated fil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velop production and agribusiness record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repare and interpret financial statements from a given set of financial information to include balance sheet, profit/loss statement, and cash flow statement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9-12.N.3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are able to use estimation strategies in problem situations to predict results and to check the reasonableness of results. (Analysis)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Use rounding as an estimation strategy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ing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One type of estimation strateg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n be used to predict and check reasonableness of results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ounding digi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When rounding to closest tens, rounding digit is second number to left (ten's place)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eps to rounding whole number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termine rounding digit and look to the right side of it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f the digit is 0, 1, 2, 3, or 4 do not change the rounding digit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f the digit is 5, 6, 7, 8, or 9, the rounding digit rounds up by one number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All digits on the right-hand side of the requested rounding digit will become 0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eps to rounding decimals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Determine rounding digit and look to the right side of it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f the digit is 4, 3, 2, or 1, drop all digits to the right of it.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0a22e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f the digit is 5, 6, 7, 8, or 9, add one to the rounding digit and drop all digits to the right of it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765.3682 becomes: 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1000 when asked to round to the nearest thousand (1000)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800 when asked to round to the nearest hundred (100)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70 when asked to round to the nearest ten (10)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65 when asked to round to the nearest one (1) 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65.4 when asked to round to the nearest tenth (10th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65.37 when asked to round to the nearest hundredth (100th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Verdana"/>
              </a:rPr>
              <a:t>765.368 when asked to round to the nearest thousandth (1000th)</a:t>
            </a:r>
            <a:endParaRPr b="0" lang="en-US" sz="20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sume a student has a pickle production business. They produce an average of 46 jars of pickles per day. Is it possible to produce 500 jars in one week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7-30T15:51:37Z</dcterms:modified>
  <cp:revision>12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274012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</vt:lpwstr>
  </property>
</Properties>
</file>